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B31-B06F-4C89-A0E2-CEA1B578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76F-7323-4F63-AD6F-BFA949BD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B97A-F867-4D13-8650-5ADC7D07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EF4-6AEB-4CDB-B936-39C74C6FC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C91C4-6FE8-4E79-B7EC-583DEC52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A53-7D02-4889-8881-AE6AFD1D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FB95-9108-4714-92A6-84ABC33B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34F-E78A-4683-B231-F6CD3D9D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CF09-4F24-4244-8450-F6AB3474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5687-293E-417E-90EA-074D6153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615-076C-4E68-B723-F5384C6E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E51-C91C-448D-9717-86763B4E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55B6-8E39-45E9-A8AE-9E828BD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49178-C9B9-4107-B7C3-9B3C88B7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9E91-7DE0-4926-8B99-120337E6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B174-D075-482C-980B-44D31988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F572-033A-4BF3-B4D4-38D19A0A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05D-9856-4685-8B5F-1128D5F6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779-F577-4A89-A20E-E2ED6A82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147-A876-4000-AFB7-3439FA5D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709-A54B-48FF-AE21-54DF633F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F1F-DD3A-4670-87FC-8DC55F9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7C7-5F11-4730-AB59-9699C29B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463320"/>
            <a:ext cx="5943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C66-0EC1-4863-A0F6-0DFACE7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75A-00A0-478A-807C-43AA9048F768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24D0-24D8-4764-B223-9E73CBE552D9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c118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db45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King J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8960" y="52574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743200" y="2103480"/>
            <a:ext cx="3657600" cy="26510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733920" y="5033880"/>
            <a:ext cx="1725480" cy="182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8:18:53Z</dcterms:created>
  <dc:creator>Stone Bank School</dc:creator>
  <dc:description/>
  <dc:language>en-US</dc:language>
  <cp:lastModifiedBy>Stone Bank School</cp:lastModifiedBy>
  <dcterms:modified xsi:type="dcterms:W3CDTF">2009-10-15T19:24:55Z</dcterms:modified>
  <cp:revision>2</cp:revision>
  <dc:subject/>
  <dc:title>The King JS</dc:title>
</cp:coreProperties>
</file>